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C596-96AE-4044-84F9-CB75224A2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F887-E7D3-4E9E-8D67-9ABB2EEA3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3C44-D9E1-4408-94EA-7462C9024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C4A5-7384-486B-96BB-85B993A8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12B5-8A16-43B5-8826-E96F1F5D8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9CBA-A628-41F2-9B42-56575AD7A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54D1-7C5A-4017-A61F-154503557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8327-7623-45D8-928D-23F41479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E707-9B7E-4FE1-9E00-2103639EF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4536-8BB7-4AEC-836D-4D6C64601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FBEF-BD67-4430-A76D-C25096B0C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C305-4054-4FD5-9259-8719292E8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FDAD-2D5E-4D47-996D-B44E3BCF6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D4F9-67EF-4C2D-9B6A-0863C6442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AE9-E626-4826-9CF9-5DA76A35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6D1-3E33-483F-B581-EC612326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081-3224-47A2-B328-3EB1E11A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F74-2143-42E2-A269-34ED341A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C58-8F01-4D42-A7E5-86FD7762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1FA-A662-4A5A-B077-9BA11420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D80-0639-4A0B-A1BC-1DFC4766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BD8-611D-498D-9BAD-CB1CA255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A21-02D1-4549-8CC5-7D332E04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5E7-1E99-4A6C-B2CA-A89A4531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5E3-C8F4-40D6-A84C-5651219B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C8B-62A9-4BB7-910D-A5562EC3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E948-70EF-4120-A6F2-2A8F3DD48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w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storm:  What parts of a house separate it from it’s external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y enter through those par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brain_getting_an_idea_hg_clr"/>
          <p:cNvPicPr/>
          <p:nvPr/>
        </p:nvPicPr>
        <p:blipFill>
          <a:blip r:embed="rId1"/>
          <a:stretch/>
        </p:blipFill>
        <p:spPr>
          <a:xfrm>
            <a:off x="5810400" y="22096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 of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move from a high concentration to low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ccurs because of a concentration grad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ion only occurs if their is a concentration grad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diffuse"/>
          <p:cNvPicPr/>
          <p:nvPr/>
        </p:nvPicPr>
        <p:blipFill>
          <a:blip r:embed="rId1"/>
          <a:stretch/>
        </p:blipFill>
        <p:spPr>
          <a:xfrm>
            <a:off x="5257800" y="3962520"/>
            <a:ext cx="3228840" cy="2500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iffan"/>
          <p:cNvPicPr/>
          <p:nvPr/>
        </p:nvPicPr>
        <p:blipFill>
          <a:blip r:embed="rId2"/>
          <a:stretch/>
        </p:blipFill>
        <p:spPr>
          <a:xfrm>
            <a:off x="6629400" y="457200"/>
            <a:ext cx="2286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oncentration gradient no longer exist it is said to be 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diffan"/>
          <p:cNvPicPr/>
          <p:nvPr/>
        </p:nvPicPr>
        <p:blipFill>
          <a:blip r:embed="rId1"/>
          <a:stretch/>
        </p:blipFill>
        <p:spPr>
          <a:xfrm>
            <a:off x="5529240" y="2367000"/>
            <a:ext cx="2048040" cy="3343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usion an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think molecules can ever move against their concentration gradi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atpaseani"/>
          <p:cNvPicPr/>
          <p:nvPr/>
        </p:nvPicPr>
        <p:blipFill>
          <a:blip r:embed="rId1"/>
          <a:stretch/>
        </p:blipFill>
        <p:spPr>
          <a:xfrm>
            <a:off x="4572000" y="2514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s movement in and out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ly perm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ubstances can pass fre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ubstances can pass to an ex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not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cells to maintain homeosta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Picture4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 phospholipid an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pids in the cell membr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 is hydrophilic (love w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ils are hydrophobic (hate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embrane"/>
          <p:cNvPicPr/>
          <p:nvPr/>
        </p:nvPicPr>
        <p:blipFill>
          <a:blip r:embed="rId1"/>
          <a:stretch/>
        </p:blipFill>
        <p:spPr>
          <a:xfrm>
            <a:off x="4800600" y="19051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spholipids only let small molecules pass thr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larger ones get in the c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quiz_membrane"/>
          <p:cNvPicPr/>
          <p:nvPr/>
        </p:nvPicPr>
        <p:blipFill>
          <a:blip r:embed="rId1"/>
          <a:stretch/>
        </p:blipFill>
        <p:spPr>
          <a:xfrm>
            <a:off x="762120" y="2895480"/>
            <a:ext cx="8381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ins in the C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s allow only certain molecules pass by based on their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" descr="facildiffani"/>
          <p:cNvPicPr/>
          <p:nvPr/>
        </p:nvPicPr>
        <p:blipFill>
          <a:blip r:embed="rId1"/>
          <a:stretch/>
        </p:blipFill>
        <p:spPr>
          <a:xfrm>
            <a:off x="4876920" y="32004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Picture4"/>
          <p:cNvPicPr/>
          <p:nvPr/>
        </p:nvPicPr>
        <p:blipFill>
          <a:blip r:embed="rId2"/>
          <a:stretch/>
        </p:blipFill>
        <p:spPr>
          <a:xfrm>
            <a:off x="4876920" y="1447920"/>
            <a:ext cx="3809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bohydrates in the cell membr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get a heart transplant can you get just anybodies he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cells to be recog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Picture4"/>
          <p:cNvPicPr/>
          <p:nvPr/>
        </p:nvPicPr>
        <p:blipFill>
          <a:blip r:embed="rId1"/>
          <a:stretch/>
        </p:blipFill>
        <p:spPr>
          <a:xfrm>
            <a:off x="5410080" y="205740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eart_pumping_hg_clr"/>
          <p:cNvPicPr/>
          <p:nvPr/>
        </p:nvPicPr>
        <p:blipFill>
          <a:blip r:embed="rId2"/>
          <a:stretch/>
        </p:blipFill>
        <p:spPr>
          <a:xfrm>
            <a:off x="1295280" y="4191120"/>
            <a:ext cx="24768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assive_Transport.asf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696080" cy="5867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organ</dc:creator>
  <dc:description/>
  <dc:language>en-US</dc:language>
  <cp:lastModifiedBy>Morgan karas</cp:lastModifiedBy>
  <dcterms:modified xsi:type="dcterms:W3CDTF">2010-12-06T19:22:35Z</dcterms:modified>
  <cp:revision>4</cp:revision>
  <dc:subject/>
  <dc:title>PowerPoint Presentation</dc:title>
</cp:coreProperties>
</file>